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FC1-4E65-41DD-B756-43627153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E6A-38D7-47BB-8FC2-8F5CA2E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C78-8292-4C1A-BD2A-F2F497DE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34E-B5DD-4EC9-905F-D8ED81F3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1C38-7192-4925-91F6-BC37E590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6C25-A208-453D-A0CC-B58749B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82C-EB33-42C2-AD58-E6A56D7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E9A9-29A1-40DE-B129-2A1B9F6C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BFB-B88A-4A6F-9735-C0383AC1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90CC-2F39-4447-A91A-2EC6B0D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D9C-417B-4B8C-BC01-D1592D9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5FD-0663-42F3-925C-B55B8CFC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FDB2-8B69-4F87-BD14-B2F9B24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677B-0AE4-414B-AFEB-C340C21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362-1CD8-4397-A8A3-1F22B9A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541-CF88-4768-92D2-70FE0BBD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FD9C-3E58-449C-986A-F3342D7A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5475-AF5B-4BED-9477-0E064D5C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C188-6565-436C-9D6B-06BF3CA8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E3A1-37B3-48D0-82F7-F4E0013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CD8A-2CC1-4238-A5A8-BB9FB5F5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BDDB-0BBA-47CC-8DED-A51F75F8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472-BC25-4153-91D5-3F90578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5F34-BFAA-480C-A07A-7C8557F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3BC3-5738-43E0-A18D-3493081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CC30-EFF9-4B2B-A243-DCEF69F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BFE4-DC01-4043-9D0E-B2BEB2F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1CD0-476A-402D-A7A2-411DA795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DA9E-D4D5-471C-8935-2DBEAA6F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9205-20BE-487C-AE91-E49E4211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2243-5869-497E-8AD6-AF41E6C6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64B0-A1CF-41B1-8BF9-D03CFA1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B722-8230-48E0-908A-AD10159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9F1-3612-4065-8B03-4A2A6DA6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28F0-D7A2-486C-A021-F0ACA87E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FE0C-4AEB-4A27-AB5A-594E497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D85C-E363-4E8C-99C0-77726BC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0A6E-4595-4609-95F6-9FB59F1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0926-7DD7-4BB5-B963-88A532E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EB43-E64B-4801-9D13-67F0419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A869-19B6-4AC6-A823-922D9E93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6B26-44A8-447F-9862-592F24E5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247D0-D746-4CC9-BAF7-DD02D474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E579-6085-417D-B9DE-6A533FCD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0FF-76F1-4ED5-9D88-2D8EFF1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FF05-C24F-4BE6-B327-AFBF280F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16EF-189F-48E8-A21B-01E861AF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C325-E695-43EE-8447-961157C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A3AD-08A7-4B0A-B590-34B00F6B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BA121-5265-4005-BFA6-29E7AE6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2991-662B-4058-A26E-3B6F610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90442-66AB-49B9-98B9-660DCF3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4A83-6559-4C46-A544-6C23C2E9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A5F1-AD1B-4AE5-8349-8838C5D6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17BA-D77C-46BF-8C48-96E987F8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AB6-0327-4A9A-B2A4-A1ECE6C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A56B-A8FC-4677-B674-9CDB20B7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8F0F8-645F-4485-B073-FD5F01F4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6EBA-811B-463B-8054-0D35B5D8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4F2C-798B-49D9-A1E6-06FEB60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F2B8-EE0D-412E-9A15-27336DF4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4A33-08FB-4122-AB0E-49FF422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601F-C301-47D2-A641-F8147B9A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C446B-711D-4603-8A07-7256DC9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C8054-70BC-4733-B73E-0AE4D54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B01EB-3D5D-4EDD-B931-21B5C4D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244-4CBC-4415-99A5-BBD153A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2F17-C780-421E-8FC3-20DA5A7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34C0-BEB2-47E4-BAFB-E0B2B826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D5C1-E59F-4B84-8AEA-EA28338A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63828-93DD-48C9-8BBE-A5186172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3FD1-BFB6-42D0-8927-E55AE623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1A98-0C14-48B0-85EC-A740479B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4922-5CBB-49E9-8A75-EA07BCF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E6F6-A73D-4A96-A211-BDC8EC9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8EC6-E0A1-4C0B-B935-79FFC32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3ED9-57E8-49C6-8C8F-892DCAC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51C-5866-4167-9CC8-235F9EB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2E4E-4AB2-4CC7-81DA-9E6E370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BCEFE-AFDB-4567-B4FA-9EE71F13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F60F-D383-454C-BC11-36EA8D9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C3B0-021E-4CA2-9A35-E38DCAE8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5EBA-A3CF-49C0-9A16-01AE6ED9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DC2-953B-4EDD-9942-DFDB165A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4A5-0F96-4945-A016-5BC9DCC6649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3F1-B9F3-4A33-9E7E-EB386417D74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1B2B-1967-434B-B57E-D5CDC917E42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283-1ACC-4380-BEA4-06531164303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C53-848F-4F27-930A-02190E6D6A2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0E2-3162-4100-A8BA-1F4404669FD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CD3-6BDF-4F77-BC1F-F3FA8C70D2D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60360" cy="2257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851280" y="404640"/>
            <a:ext cx="2054160" cy="2305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755640" y="492120"/>
            <a:ext cx="24112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September 11</a:t>
            </a:r>
            <a:r>
              <a:rPr b="0" lang="en-GB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 200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00000" y="1773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co-ordinated series of attacks on the USA by al-Qaed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ijackers crashed planes into the twin towers at the World Trade Centre, the Pentagon and Pennsylvan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3,000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e US responded by launching the ‘war against terror’ and invading Afghanista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The New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footage of the second plane crash was seen live by million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se images have become the most documented and watched event in TV histor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mpact of new technolog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t the time news reporting was selective – focused on the powerless victims of the Twin Towe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is emphasised the illegitimacy of the violen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References to the Pentagon and Pennsylvania crash sites were often marginalis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Realism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Amateur nature of footage gave it VALIDITY and CREDIBILIT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shaky hand held images taken by the public affirmed the reality of the disaste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The realism of the event was seen through the prism of disaster movies previously watch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itially it was felt that audiences would no longer be able to derive pleasure from these in the futu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Schwarzenegger’s Collateral Damage was withdrawn from releas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After 9/1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presentations of violence in both fictional and news texts have chang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presentations of New York were also alter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riends (TV) and Spiderman (film) removed images of the twin towers from the New York sky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New York started to be represented in a more complex and less upbeat wa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Day After Tomorrow (2004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24 – series (2001- ) Shift in focus on threat from terrorism rather than threat from crim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910640" y="0"/>
            <a:ext cx="1233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ar Against Terror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fter 9/11 journalists and politicians represented the Western world as involved in a ‘war against terrorism’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This representation has been used as a justification for invasions into Afghanistan and Iraq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creased security measures at airports/bord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093080" y="5313240"/>
            <a:ext cx="20509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War Against Terr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REFLECT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cus on the selectivity of representations of 9/11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‘war on terror’ 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Wars in Afghanistan and Iraq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CONSTRUCTIONI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The ‘war on terror’ is a product of media representations, constructed through media language and political discourse circulated in the med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ch a perspective suggests a heavy involvement and culpability of the media in politic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New media impa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ew media can offer new outlets for divergent views in contemporary socie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Satellite channels – Al Jazee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Websites – the Baghdad Blogger, LiveLea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3:51:18Z</dcterms:created>
  <dc:creator>Grainne</dc:creator>
  <dc:description/>
  <dc:language>en-US</dc:language>
  <cp:lastModifiedBy>niall</cp:lastModifiedBy>
  <dcterms:modified xsi:type="dcterms:W3CDTF">2010-10-06T19:21:08Z</dcterms:modified>
  <cp:revision>8</cp:revision>
  <dc:subject/>
  <dc:title>The Media – post 9/11</dc:title>
</cp:coreProperties>
</file>